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573-00CA-4939-A039-9E0D4503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C11-CD6F-43C5-BF07-83ABC576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A41-462A-4AD2-A639-DC505AE1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365-7E60-4904-BF95-CCAF1DED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DEE-C8D1-46A3-AB47-822A9C14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17C-219B-4FD7-A853-82D00D36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15C-E85C-46D0-B420-4EDDB57A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EE3-14C7-483A-9506-6E9CD14A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7C0-7073-45D6-A774-D288E849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56D-CE6C-4EB5-B1F0-5EB1135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CDA-D110-405F-B4DB-BB249AAA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FE7-E226-432C-883A-2B8719C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8A94-99C4-4502-876E-BD441FCCB0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00"/>
                </a:solidFill>
                <a:latin typeface="Calibri"/>
              </a:rPr>
              <a:t>Historia powstania pralk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11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Firma Maytag wprowadza swój pierwszy model pralki z napędem elektrycznym – „The Swinging Wringer washer”. Model wyposażono w odłączaną wyżymarkę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niedaleko jeziora Michigan bracia Upton zakładają Upton Machine Company, firmę mającą produkować napędzane elektrycznie pralki. Z czasem firma zmieni nazwę na Whirlpool Corporation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15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Maytag dostarcza na rynek pralkę „The Multi Motor washer” napędzaną silnikiem spalinowym przeznaczoną dla gospodarstw na terenach niezelektryfikowanych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rynek trafiają pierwsze elektryczne suszarki do ubrań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18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Rinso wynajduje sproszkowane detergenty do domowego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żytku. Pozwala to skuteczniej oddzielać brud bez konieczności szorowania/tarcia. Wynalazek przyczynia się do zaniku elektrycznych pralko-tar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20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Na rynek trafia pralka z komorą prania wykonaną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aluminium. Jest trwała i odporna na rdzę. Producent: Maytag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22 r. 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rma Maytag przedstawia „The Gyrafoam washer”, pierwszą pralkę z tzw. Agitatorem. Urządzenie zamiast mieszać ubrania w wodzie wymusza przepływ wody przez tkaninę. Umożliwia to pranie delikatnych tekstyliów/tkan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6093000"/>
            <a:ext cx="8064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ralka z 1924 r. napędzana silnikiem elektrycznym działająca na zasadzie próżniowej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03640" y="2727360"/>
            <a:ext cx="2232000" cy="3257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5877000"/>
            <a:ext cx="806436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53735"/>
                </a:solidFill>
                <a:latin typeface="Calibri"/>
              </a:rPr>
              <a:t>Pralka z 1927 r. firmy Beatty Brothers z tzw. agitator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3066840" cy="4824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30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Producenci tworzą ulepszone wersje pralek oscylujących napędzanych ręcznie. Operator, naprzemiennie pchając lub ciągnąc dźwignię zamocowaną do naczynia, wprawiał w ruch znajdujące się w nim wodę i ubranie. W kołysaniu naczyniem pomagały, zamocowane do niego oraz konstrukcji ramy, sprężyny. Dodatkowo ruch wody wewnątrz naczynia wzmagały znajdujące się tam przegrody, które wymuszały przepływ wody po linii ósem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03640" y="3225960"/>
            <a:ext cx="2808360" cy="3311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ok. 1930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John W. Chamberlain z Bendix Aviation Corporation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struuje maszynę, która pierze, płucze i sama wypompowuje wodę z ubrań w jednym cyklu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34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 Stanach Zjednoczonych powstała pierwsza pralka automatyczna. Posiadała możliwość zmiany długości czasu prania, płukania i odwirowania, a także regulację temperatury wody i szybkości obrotu bęb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4941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419640" y="2970360"/>
            <a:ext cx="3241440" cy="3338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37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 USA pod marką Bendix wprowadzono na rynek pierwszą programowaną pralkę automatyczną – samodzielnie wykonującą czynności: prania, płukania, odwirowania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zenie pozwalało też na czasowe zaprogramowanie czynności, ustawienie temperatury wody czy szybkości obrotów. Ponieważ bęben nie miał amortyzacji zawieszenia, aby zapobiec jej przemieszczaniu, należało ją zamocować do podło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000" y="5950080"/>
            <a:ext cx="82184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53735"/>
                </a:solidFill>
                <a:latin typeface="Calibri"/>
              </a:rPr>
              <a:t>W 1940 r. 60% z 25 milionów zelektryfikowanych gospodarstw w USA posiadało pralkę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676680" cy="259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02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1947 r.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Firma będąca poprzednikiem Whirlpool Corporation wprowadza na rynek pierwsze pralki automatyczne ładowane od góry tzw. „top-loading”.</a:t>
            </a:r>
            <a:br>
              <a:rPr sz="2200"/>
            </a:b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1949 r.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W USA firma Maytag wprowadza na rynek pralkę automatyczną</a:t>
            </a:r>
            <a:br>
              <a:rPr sz="2200"/>
            </a:b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1950 r.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Firma Westinghouse prezentuje urządzenie umożliwiające zarówno pranie, jak i suszenie ubrań.</a:t>
            </a:r>
            <a:br>
              <a:rPr sz="2200"/>
            </a:b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 1951 r.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- Pierwsze pralki automatyczne pojawiają się w Europ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6237000"/>
            <a:ext cx="8218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Pralka z dodatkową funkcją suszar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2840040" cy="2917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Frania – elektryczna pralka wirnikowa, niezwykle popularna w Polsce od lat 6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25200" y="6308640"/>
            <a:ext cx="82184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olar PS 663 Bio „Superautomat” z 1986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780000" y="260280"/>
            <a:ext cx="1728720" cy="237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3573360"/>
            <a:ext cx="2681280" cy="2376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78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 firmie Miele powstaje pierwsza pralka sterowana mikroprocesorem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2006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Firma Sanyo wprowadza na rynek pralkę „Aqua”. W pralce zastosowano m.in. proekologiczny system optymalizujący zużycie wody. Część wody po uzdatnieniu (oczyszczanie ozonem) jest wykorzystywana ponow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5640" y="5876640"/>
            <a:ext cx="72327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Model AWD-AQ1 – Pralka do eliminowania zapachów i bakterii wykorzystuje ozon. Może zatem prać bez wo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622680" cy="2737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alk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sprzęt, który można znaleźć obecnie w każdym domu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zczędza nam czas, zużycie wody i energię – tą z sieci i tą nasz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ymbol zastępczy zawartości 5" descr="pralka1.jpg"/>
          <p:cNvPicPr/>
          <p:nvPr/>
        </p:nvPicPr>
        <p:blipFill>
          <a:blip r:embed="rId1"/>
          <a:stretch/>
        </p:blipFill>
        <p:spPr>
          <a:xfrm>
            <a:off x="3132000" y="2060640"/>
            <a:ext cx="2965680" cy="4189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tarożytności ubrania prano poprzez uderzanie nimi o skały lub pocieranie ich np. szorstkim piaskiem. Oderwany w ten sposób brud następnie spłukiwano (wypłukiwano) z materiału w pobliskich strumieniach lub rzek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2920" y="5157360"/>
            <a:ext cx="622476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rosty drewniany przyrząd do prania. Podczas prania należało nim pocierać wilgotny i namydlony materia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132000" y="2614680"/>
            <a:ext cx="3240360" cy="2347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491920"/>
            <a:ext cx="81471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            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Tarka do prania ręcznego wykonana z aluminium.</a:t>
            </a:r>
            <a:br>
              <a:rPr sz="1800"/>
            </a:b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W 1851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Amerykanin James King opatentował pierwszą pralkę używającą bębna - pierwszy model pralki nosił nazwę "MacAlpine".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Jej działanie opierało się na wykorzystaniu pary, a zasada działania tej pralki znacznie odbiegała od naśladowania ręcznych czynn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114800" cy="1930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58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Hamilton Smith opatentował pralkę rotacyjną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61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 po raz pierwszy do pralki dodano wyżymacz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ę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5516280"/>
            <a:ext cx="7858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ralka typu dolly z drewnianym zbiornikiem i kołem zamachow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683080" cy="3622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74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illiam Blackstone zbudował pierwszą pralkę przeznaczoną do pomocy gospodyni domowej. Urządzenie powstało jako prezent urodzinowy dla jego żony. Pralka wykonana była z drewna. Pranie odbywało się w wodzie z rozpuszczonym mydłem. Drewniane elementy wewnątrz bębna uderzały brudne ubrania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 1885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Mechanizacja technik prania poprzez tarcie/szorowanie. Powstają proste urządzenia przenośne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92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George T. Sampson uzyskuje amerykański patent na suszarkę do materiału. Urządzenie wykorzystywało wentylator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ciepło z pieca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07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Frederick Louis Maytag rozpoczyna działalność w branży urządzeń do prania odzieży, a Maytag Corporation zaczyna produkcję pralek z drewnianym bębnem z napędzanym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ęcznie kołem zamach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3640" y="4724280"/>
            <a:ext cx="8569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Tarka do prania – przykład wczesnej mechanizacji procesu prania. Ubranie umieszczano pomiędzy naczyniem, a ramką wewnątrz naczynia. Następnie poruszanie ramką powodowało, że materiał ocierał się o dwie sąsiadujące żebrowane powierzchnie. Brak konieczności zanurzania dłoni w wodzie dawał dodatkową korzyść – można było prać w znacznie wyższej temperaturz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705120" cy="3961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08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Firma Hurley Machine Company z Chicago wprowadza na rynek pierwszą pralkę z napędem elektrycznym o nazwie Thor. Urządzenie skonstruował Alva J. Fis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3640" y="6021360"/>
            <a:ext cx="8351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ierwsza pralka elektryczna miała zbiornik bębnowy z  galwanizowanym naczyniem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535120" cy="3900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09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Amerykańska firma Maytag wprowadza na rynek swoją pierwszą pralkę napędzaną silnikiem – „The Hired Girl washer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580536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od koniec lat 90. XIX w. producenci wytwarzali też urządzenia do prania wyposażone w kilka dzwonów zasysających połączonych przekładniami z dźwigni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909880" cy="4199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7:36:54Z</dcterms:created>
  <dc:creator>Dorota</dc:creator>
  <dc:description/>
  <dc:language>en-US</dc:language>
  <cp:lastModifiedBy>Dorota</cp:lastModifiedBy>
  <dcterms:modified xsi:type="dcterms:W3CDTF">2013-08-19T08:49:24Z</dcterms:modified>
  <cp:revision>24</cp:revision>
  <dc:subject/>
  <dc:title>HISTORIA POWSTANIA PRALKI ROZBUDOWANA</dc:title>
</cp:coreProperties>
</file>